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8E46-BE10-4166-9F78-C36BA59D86B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70BF-0381-43A9-ABE6-9EB805D008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5AF7-652B-4960-A8EF-7B77ACB45B3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419-77B5-4199-B3F7-84EAD4E9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40B-561B-4721-B6E1-2EBE96D2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8C0-DB53-4B4E-8941-C234CB5F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04D-3857-4BDA-9169-24AC0A59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279F-F3CA-4B6D-B2F5-0945292B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00E-A04D-4B59-8FA9-ED8E8E10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E59-962A-44B0-BCF3-5DB63100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C82A-B5D5-4AF4-B146-128278EC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F8E-9676-460F-AAAC-16B54B66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9BD-133C-480B-A0B0-A491291C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C14E-D00F-4B2C-B0AC-482FE5BA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794-9BD6-4219-B861-ACE9AF6B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BF7F-4816-4AF3-8E69-D7DDFC858B1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pl-PL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zamek królewski_W-Wa_akt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" name="Text Box 4"/>
          <p:cNvSpPr/>
          <p:nvPr/>
        </p:nvSpPr>
        <p:spPr>
          <a:xfrm>
            <a:off x="6100920" y="63514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zamek królewski_W-Wa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" name="Text Box 7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227640" y="634032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zamek MAKBORK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0" name="Text Box 4"/>
          <p:cNvSpPr/>
          <p:nvPr/>
        </p:nvSpPr>
        <p:spPr>
          <a:xfrm>
            <a:off x="6156360" y="64580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zamek książ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4" name="Text Box 4"/>
          <p:cNvSpPr/>
          <p:nvPr/>
        </p:nvSpPr>
        <p:spPr>
          <a:xfrm>
            <a:off x="6192720" y="64389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msk</cp:lastModifiedBy>
  <dcterms:modified xsi:type="dcterms:W3CDTF">2019-08-14T22:01:43Z</dcterms:modified>
  <cp:revision>16</cp:revision>
  <dc:subject/>
  <dc:title>Slajd 1</dc:title>
</cp:coreProperties>
</file>